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AFF0-12C4-40B9-B7B8-7BC03D02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67EE-7C13-4B93-92B1-E6E9E79B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01D1-32C8-4CE5-A36C-2550A895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35A4-375B-436B-B2E5-AAB517E4B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8F22-095F-4210-82D2-0BBED90EF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C8FC-9C42-4F5E-A1CB-AFE5D463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C6C3-C225-4CF9-8CD9-D7FF8B20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DCED-4764-42DF-A08D-4EEF213B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FD93-1915-4167-AAC8-6C856C5F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D66B-FFB4-43A6-ABC0-56201F73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86F6-226A-41C4-A186-02635803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6AA2-E8CC-4885-90A3-B0593AC2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07E1-D332-4D8C-8969-0E1424EA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FA4C-6DE3-4599-837D-00FEB821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70D8-2F75-481D-93DB-AB3C8C7E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F49E-8301-4273-A887-DF851FA5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F1FE-449D-4F33-ADC7-6F94E5232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8749-FA8F-4551-A3E1-E07E6400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7047-2AD1-4CB5-BC60-CD7072A3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EC0A-29E9-4DF0-AB34-2045A154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9411-644D-4B65-8881-D7D1D636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975E-9796-476A-BEFF-DAD264BF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3440-1957-489E-8A73-BCE8F450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5039-1551-4CDB-AA24-E8723C20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B756-6D8F-4A6A-A7D5-D4E20499D1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DCE9-FCBC-434A-B523-82B0F8145F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cssa.org/newsroom/scholarships/great8sci/Matter/Choose_Matter.html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Wassermolek&#252;leInTr&#246;pfchen.png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200"/>
            <a:ext cx="7238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What are Solids, Liquids, and Gases?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rticle Spac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ow do solids, liquids, and gases compar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quid Behavi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nsity- much denser than gases, not compre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Fluid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diffuse slower than gases, still “flow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Viscos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measure of resistance to fl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ect of temperature- higher temp, lower viscos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419720" y="1752480"/>
            <a:ext cx="403848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quid Behavi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Surface Ten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uses drops and menisc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apillary 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ter can climb narrow tub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Diagram of the forces on a molecule of liquid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971800"/>
            <a:ext cx="3522600" cy="35622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952880" y="3581280"/>
            <a:ext cx="29718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lid Behavi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nsity- more dense than gases and liquids and incompre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ystalline Soli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t Ce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yst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343400" y="990720"/>
            <a:ext cx="4795920" cy="5867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rcRect l="0" t="47895" r="56875" b="6515"/>
          <a:stretch/>
        </p:blipFill>
        <p:spPr>
          <a:xfrm>
            <a:off x="1143000" y="4343400"/>
            <a:ext cx="2227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lid Behavi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lecular Solids-dispersion, dipole, or H-bonds (ex: suga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valent Network Solids- covalent bonds with self (ex: diamon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onic Solids- ionic attraction (ex: sal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allic Solids- mobile electrons (ex: coppe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morphous Solids- irregular pattern           (ex: glas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67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ssign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. 395 # 13-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. 403 # 17-2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ll sent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60084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ase Chang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066680" y="1608120"/>
            <a:ext cx="647712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33520" y="849240"/>
            <a:ext cx="8229600" cy="60087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eating Curv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dothermic Phase Chang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lting- solid absorbs energy until particles have enough speed to break free of IM forces holding them in pl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porization-liquid absorbs energy until particles have enough speed to break free of IM forces holding them close toge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562720" y="1762200"/>
            <a:ext cx="263196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inetic Molecular Theory (KMT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33720" y="781200"/>
            <a:ext cx="5486400" cy="32590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matter is in constant, random motion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30600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ses- particles move freely and independently of one an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30600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quids- particles are attracted to one another, but are still able to slide past each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30600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ids- particles are strongly attracted to each other and shake in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Liquid to Ga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46432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525744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aporation- occurs at surf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iling- occurs throughout when vapor pressure equals atmospheric press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blimation-solid to g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othermic Phase Chang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40384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dens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o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eez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666880" y="2039760"/>
            <a:ext cx="647712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hase Diagram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ssign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. 409 # 24-2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, sentences pl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. 4 in pack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view Assignment due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day before the test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es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ases and KM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vidual gas particles are super tiny and hold no actual volu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cles move in straight lines until they col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lisions ar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lasti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o kinetic energy is l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648320" y="1719360"/>
            <a:ext cx="403848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as Behavi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16980" t="19765" r="0" b="4247"/>
          <a:stretch/>
        </p:blipFill>
        <p:spPr>
          <a:xfrm>
            <a:off x="380880" y="160020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ression- gases can be compressed because they have very LOW DENS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sion- gases will fill any size container because the particles are not held toge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aham’s La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Diffus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movement of one material through an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ffus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gas particles escaping through tiny holes in the contain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ham’s La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Rat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√molar mas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t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√molar mas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16985" t="0" r="16985" b="0"/>
          <a:stretch/>
        </p:blipFill>
        <p:spPr>
          <a:xfrm>
            <a:off x="5410080" y="1752480"/>
            <a:ext cx="266724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ases and Press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0384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ressu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force per unit a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es cause pressure by colliding with the walls of their conta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Barome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measures atmospheric press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Manome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measures vapor press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lton’s Law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103640" y="1762200"/>
            <a:ext cx="504036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nits of Press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719360"/>
            <a:ext cx="91440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atmosphere= normal atmospheric pres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tm = 760 mmHg = 14.7 psi = 101,325 Pascals = 101.32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5 atm = ? mmH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804 mmHg = ? ps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ssign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. 388-392 # 1-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w all mathematical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swer in full sent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ermolecular For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80960" y="2033640"/>
            <a:ext cx="3990960" cy="37814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Intermolecular Forces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e forces that exist between particles of a subst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Types (in order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treng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persion- caused by electron mov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pole- caused by polar attr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ydrogen Bonds- caused by hydrogen and N,O,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17:32:23Z</dcterms:created>
  <dc:creator>udsd</dc:creator>
  <dc:description/>
  <dc:language>en-US</dc:language>
  <cp:lastModifiedBy>udsd</cp:lastModifiedBy>
  <dcterms:modified xsi:type="dcterms:W3CDTF">2007-04-18T15:24:01Z</dcterms:modified>
  <cp:revision>30</cp:revision>
  <dc:subject/>
  <dc:title>What are Solids, Liquids, and Gases?</dc:title>
</cp:coreProperties>
</file>